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91D4-C87E-4FFC-AF30-0F2AE5F9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4A5B-ADA6-407A-8388-39EA3598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5A90-8749-46B8-A7BD-C16B1794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B79D-D7A8-4D3D-A285-D8B7DF4B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B332-17C1-4C73-8495-5EA642DC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EE5C-4A21-476B-B970-A2D2216B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E0FB-C0F3-487A-991B-D1860078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94BD-A116-48B9-BA37-CCDF61C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8FEE-E418-4D43-95CF-79401892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8D5C-46BD-4ECB-99EB-6ED290A3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E9B1-978D-4CC7-B61A-0A19EA39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8B36-8251-4086-BE45-5B4B293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76D0-7C19-47BC-ABC9-E8234C0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3846-9929-41A1-A892-FAD9E552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5879-9CA1-45DB-94CC-9196E62E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D0C8-6538-4FE5-A444-7BD20882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58F1-A020-49DF-BB09-019B79CE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3E8F-A132-478D-96AD-FFDA1615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8818-8E18-4FDA-AD5C-C1828595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4766-4DEA-4DE8-88C6-34D25D7D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6C95-6C79-4C22-BE1D-2F7F0247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4F23-CC8A-4C5F-9BD2-9D0C0C4D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4018-6B25-4291-B7B7-C25406C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D2B2-E1BC-4B4F-A66A-6FC6EB9A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B733-C51F-450B-8544-77BB856E741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E97B-E8D0-41F4-9F68-6CB4B04B43A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807560"/>
            <a:ext cx="11279160" cy="3141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0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4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съботно училищ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ие светилищ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казваш ми към Бога дру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ш сърце и у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76940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еб уча аз, че зарад н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рпял Спасителя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кръста смърт, от грешни сра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 дал спасение н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62880" y="1637280"/>
            <a:ext cx="80848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годарим Ти, Отче наш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верен Си наш Страж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и до днес с любов сег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ържиш ни при Хрис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70960" y="1637280"/>
            <a:ext cx="7668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съботно училищ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ие светилищ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ушата ми ти радост вле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пътя ми все гре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8T07:24:49Z</dcterms:modified>
  <cp:revision>32</cp:revision>
  <dc:subject/>
  <dc:title>Slide 1</dc:title>
</cp:coreProperties>
</file>